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7131050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7131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0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28"/>
          </p:nvPr>
        </p:nvSpPr>
        <p:spPr>
          <a:xfrm>
            <a:off x="4039920" y="0"/>
            <a:ext cx="30906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211040" y="706320"/>
            <a:ext cx="4709880" cy="353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29"/>
          </p:nvPr>
        </p:nvSpPr>
        <p:spPr>
          <a:xfrm>
            <a:off x="0" y="8945280"/>
            <a:ext cx="309096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30"/>
          </p:nvPr>
        </p:nvSpPr>
        <p:spPr>
          <a:xfrm>
            <a:off x="4039920" y="8945280"/>
            <a:ext cx="30906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F62B-597C-44FA-AAA5-AF7CDD8F3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 OUT MCCASKILL PAC PROSPEC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3075-1E5D-4D15-9AE7-2B7675E496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NY OF YOU ON STATE OR LOCAL RAC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8723-EB1C-459F-A19F-C1EEA3F6D0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A5F7-7A59-4DB6-8A9F-4DAC6AE3C5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147-308E-42AE-A85E-00807AD8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03F-383F-48F0-9A35-FF8F0AD3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C8FF2-8A37-4CBF-9047-9220763B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FCFED-098F-4C2A-BA87-976F03DB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97651-552E-4CA5-BF86-9423658F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245D0-742C-4F8F-8FAB-D84250A5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EA4ED-C1B8-4793-AE99-2F2F1090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21FDA-8289-46E1-9202-6A660FF7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CA004-959E-4330-8D73-4BB28793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60965-2DBB-4B9D-B6A0-A582DFB6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6F160-7DEE-48BA-B290-18D9C54D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E87-79DA-49A3-8B7B-84D22845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509-2994-4F43-A10E-4066CCB2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07BA-8E33-46CD-8FFE-1173CB81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8679-A16F-44C8-BFDD-4ADE4853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5560-5F32-4B72-93FE-70BEF1C7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34DC-6471-48FA-A4BB-FBC920EB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F495-7E05-4282-BC2A-528C8CA2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E2CF-D56E-47AC-A264-0A2218B0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A1A6-41C8-4787-9663-8D2F611F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961-BCB7-4824-946C-FC8C99DE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2E26-4180-4E8A-8BB6-2B7D4576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FA86-37A3-459C-A7AB-A897F420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EB03-0C7D-4E5F-82EA-E372E71A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8F8D-5727-433A-9E8F-FD5BC69D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7021-B555-4576-9B05-DF3B74E8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C6AF8-5DFC-4022-BEF5-B1EEDB0A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65AC7-219F-442A-A0A6-F9725228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DD20A-EEE1-4D67-A64A-0E31B6B1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02A8A-5CE6-47F7-AAD8-2E2C063C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54D99-B873-4970-93E8-73794489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821-9742-4826-AFEA-6A910D87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32EC7-2AE3-4E75-8E8E-954EB9DB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04D2B-393C-43A0-B19A-F68C1F9B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1853F-580C-4616-BE5B-D333F10B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6D830-A7C4-4E95-BBDC-1B0D7A99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87C7F-AC22-4361-ADF3-57DF6C44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48095-0B52-49EC-92D0-2499A6E7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CAF66-F48C-4541-8D44-6F89F806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CCEC3-8165-408F-9439-CD3F4683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A2EC3-6596-4491-A7EE-C80E7140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5D8180-070E-4F4B-8F16-D2C8BD0C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97B-0598-4484-85FB-A9A603E9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45596-C605-4DD2-8E17-D27A9F54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CE20CE-82E2-40FD-B4D8-18F337F4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6C2575-B6FC-411F-A8FB-ACF7115B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B88FB7-A6B9-4DE6-9112-DDFC44B8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D588A-43E2-474B-83FD-BE35D3F3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01E37-50BC-48AD-B6D0-E9635037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611C4-D6D3-43B9-B4D6-ABDA9460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356C0-3200-4AAD-8C1C-4D5A86D2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7D698-0F26-4A1D-97E3-1F40707C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76E69-D1E6-4DCA-AAED-163EF786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867-6B9A-4896-9716-D35DF729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FED283-E3B9-420A-9F59-A5D881B8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74EA6E-2BE2-4162-8F52-7D55ABB6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303E2-1896-4DF3-86A0-63D7BEC7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ABBCD-CABB-4C02-8AE5-2DBA3BCB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05191-369C-484B-AE70-5B5D0406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346D8-2D99-49B6-B2C7-6F8B6122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03B46F-11E5-4A93-B99D-5CA71CF2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6026F-79F1-462E-A9B0-D54A02C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0B183-5EE4-43A1-AFAA-67317A8A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BAC47-5EBA-45BA-810F-ED80C59F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EFE-4731-4FFC-8886-ABCB021F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A090A-0910-49D5-A333-A017EF95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B34B6-5B57-439C-BCB5-1BD32DFC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9EE66-C271-41CC-B0C9-D034FC2F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44B0D-E503-45BD-B038-28FB080F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AB144-4158-40D8-A6AC-372EA44A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8C1FD-3340-4DF6-BE48-60DACAC5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C5D1A-BE2C-497D-8AC6-B7AA3308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C51C7-0045-4A7E-8F00-B6935519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71249-7CC9-477E-B872-5722DF25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BE263-F156-4726-94A9-50B56BC5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467-AF84-4AEF-94EE-97923B30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C762B-ACD6-40E9-88DC-834383CD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67A08-F423-4087-9B11-9DB9C7AA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B293E-1479-46E3-ABD2-3967F22C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9A5E2-A0A5-4360-A6C4-2DBF0D58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64F36-B3A5-42E9-9892-7989A99E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3EF565-C479-4EC1-A2F5-E26EC1C0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6A2EE-397F-439D-90E5-C4823D5E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C61EC6-3DE8-43DD-92F1-059404E5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2EEC4D-1925-41E3-AFAB-CE291A0A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81ED04-24CB-47E8-960C-DAA9EDED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F5C-C5D0-43ED-A5AC-9B451AA5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362E6-7FFB-4CF2-BD9C-3C700F9A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72CCF-202D-458F-8033-63B33340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F4CEC-1582-4D15-BADF-F10CDBE4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880197-8E13-4011-BC81-80E9D8D3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7408DD-A348-4BEF-ABB6-29CA3729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E81B5-9CBA-4BE3-8A35-94F872FD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32ECC-EC59-4990-B423-4AA628B7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F497E-E066-494A-AAC9-A1EC0312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F9C69-99AF-4829-9867-B32FD68B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E37F5-3129-47BD-A749-09753977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573-6781-42D2-BE51-4D4575C8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EE6B7-25CF-4E2E-A371-F44A73E9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5930E-33C7-4C79-8C71-F69429A4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41CD3-9BD3-4FA0-B73E-F9FBA52A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42BA7-7E99-4370-A0E7-961D65A7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3A89D-9D6F-41F0-955C-805B6EA0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0C9DC-694A-4201-A0A7-83D3CEE1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06B80-1CD8-4516-BDB3-58F1C63C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4845A-B871-4614-9676-4FEBDE16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9F882-3E89-4B78-80A9-71A30D66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50018-A845-4405-BF07-0BCE726F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c8e3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3AF9-D442-4FBC-9562-B7F56C43B7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c8e3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1CF2-D9AF-47F7-A5E7-89D546F48C7A}" type="slidenum">
              <a:rPr b="1" lang="en-US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c8e3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F318-0037-4287-9606-DFAF31F7C02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c8e3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32B6-8F86-4584-8162-49F98F9BA5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c8e3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155A-097C-409B-B93C-FDEC16618C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c8e3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3DDF-6695-4CD3-890A-46BE55F80E7A}" type="slidenum">
              <a:rPr b="1" lang="en-US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c8e3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2B6C-C0D5-4DB2-8E5F-55A2DC073AC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c8e3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5795-7285-4B53-B4A1-9015B71298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c8e3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40BD-D42E-4029-B96D-21485A68F4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ec.gov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3600"/>
            </a:br>
            <a:r>
              <a:rPr b="1" lang="en-US" sz="3600" spc="-1" strike="noStrike">
                <a:solidFill>
                  <a:srgbClr val="c4efff"/>
                </a:solidFill>
                <a:latin typeface="Rockwell"/>
              </a:rPr>
              <a:t>RAISING FROM THE PAC &amp; MEMBER COMMUNITY</a:t>
            </a:r>
            <a:endParaRPr b="0" lang="en-US" sz="36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Maiandra G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2971800" y="2286000"/>
            <a:ext cx="617220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7b615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b6d2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The Basics &amp; FEC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7b615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Targeting &amp; Messag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7b615"/>
              </a:buClr>
              <a:buSzPct val="60000"/>
              <a:buFont typeface="Levenim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How to Get a PAC ch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7b615"/>
              </a:buClr>
              <a:buSzPct val="60000"/>
              <a:buFont typeface="Levenim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Expec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7b615"/>
              </a:buClr>
              <a:buSzPct val="60000"/>
              <a:buFont typeface="Levenim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7b615"/>
              </a:buClr>
              <a:buSzPct val="60000"/>
              <a:buFont typeface="Levenim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Relationship Building &amp; Mainten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7b615"/>
              </a:buClr>
              <a:buSzPct val="60000"/>
              <a:buFont typeface="Levenim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Member $$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7b615"/>
              </a:buClr>
              <a:buSzPct val="60000"/>
              <a:buFont typeface="Levenim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How the DCCC can help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4" descr="cid:image002.jpg@01CB452B.633CF280"/>
          <p:cNvPicPr/>
          <p:nvPr/>
        </p:nvPicPr>
        <p:blipFill>
          <a:blip r:embed="rId1"/>
          <a:stretch/>
        </p:blipFill>
        <p:spPr>
          <a:xfrm>
            <a:off x="609480" y="2751120"/>
            <a:ext cx="19051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efff"/>
                </a:solidFill>
                <a:latin typeface="Rockwell"/>
              </a:rPr>
              <a:t>Care PACage: Request Letter </a:t>
            </a:r>
            <a:endParaRPr b="0" lang="en-US" sz="3600" spc="-1" strike="noStrike">
              <a:solidFill>
                <a:srgbClr val="dbf5f9"/>
              </a:solidFill>
              <a:latin typeface="Tw Cen MT"/>
            </a:endParaRPr>
          </a:p>
        </p:txBody>
      </p:sp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5907240" cy="472464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6"/>
          <p:cNvSpPr/>
          <p:nvPr/>
        </p:nvSpPr>
        <p:spPr>
          <a:xfrm>
            <a:off x="304920" y="27432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0" y="1752480"/>
            <a:ext cx="312408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Important Information to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9aa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FEC ID #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9aa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Committee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9aa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Treasur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9aa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9aa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If its to a union –    union bug or “Printed in house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9aa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Why they should              support your     candid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efff"/>
                </a:solidFill>
                <a:latin typeface="Rockwell"/>
              </a:rPr>
              <a:t>Care PACage: Prospectus</a:t>
            </a:r>
            <a:endParaRPr b="0" lang="en-US" sz="36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A PAC Prospectus can include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Candidate Bio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Polling Memo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Endorsement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District Demographic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Positive Quot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FEC ID Number &amp; Campaign Committee Vital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Recent Positive Press Clip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f5f9"/>
                </a:solidFill>
                <a:latin typeface="Rockwell"/>
              </a:rPr>
              <a:t>Member Money</a:t>
            </a:r>
            <a:endParaRPr b="0" lang="en-US" sz="36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9aaf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Does your candidate have a personal connection to any current or former members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9aaf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Your own Delegatio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318960">
              <a:lnSpc>
                <a:spcPct val="100000"/>
              </a:lnSpc>
              <a:spcBef>
                <a:spcPts val="550"/>
              </a:spcBef>
              <a:buClr>
                <a:srgbClr val="59aaf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Is there someone in Leadership?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318960">
              <a:lnSpc>
                <a:spcPct val="100000"/>
              </a:lnSpc>
              <a:spcBef>
                <a:spcPts val="550"/>
              </a:spcBef>
              <a:buClr>
                <a:srgbClr val="59aaf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Don’t forget your Senator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9aaf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Members in your Regio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9aaf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Members on your Committe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318960">
              <a:lnSpc>
                <a:spcPct val="100000"/>
              </a:lnSpc>
              <a:spcBef>
                <a:spcPts val="550"/>
              </a:spcBef>
              <a:buClr>
                <a:srgbClr val="59aaf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Will they do floor cards?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318960">
              <a:lnSpc>
                <a:spcPct val="100000"/>
              </a:lnSpc>
              <a:spcBef>
                <a:spcPts val="550"/>
              </a:spcBef>
              <a:buClr>
                <a:srgbClr val="59aaf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Will the Ranking Member make calls or host an event for your candidate?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9aaf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Members that have the same ideology or ethnicity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wipe dir="r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743200" y="380520"/>
            <a:ext cx="3425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efff"/>
                </a:solidFill>
                <a:latin typeface="Rockwell"/>
              </a:rPr>
              <a:t>ExPACtations</a:t>
            </a:r>
            <a:endParaRPr b="0" lang="en-US" sz="36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0520" y="16761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Levenim MT"/>
                <a:ea typeface="Levenim MT"/>
              </a:rPr>
              <a:t>No one is entitled to DC money. Money you receive out of DC will be based on your Candidates background, relationships built within your State and the credibility of their Candidacy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Levenim MT"/>
                <a:ea typeface="Levenim MT"/>
              </a:rPr>
              <a:t>PAC and Member money comes in late – you can count on the majority of it coming before your primary and in the last few weeks of the general election. 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Levenim MT"/>
                <a:ea typeface="Levenim MT"/>
              </a:rPr>
              <a:t>Because everyone is at different stages with building a PAC plan – consult your DCCC Regional when targeting out PAC and Member money for the quarter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Levenim MT"/>
                <a:ea typeface="Levenim MT"/>
              </a:rPr>
              <a:t>The stronger relationship you build with your Local, the harder they will push their nationals in DC to support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wipe dir="d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743200" y="380520"/>
            <a:ext cx="3425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efff"/>
                </a:solidFill>
                <a:latin typeface="Rockwell"/>
              </a:rPr>
              <a:t>ExPACtations</a:t>
            </a:r>
            <a:endParaRPr b="0" lang="en-US" sz="36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0520" y="16765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Levenim MT"/>
                <a:ea typeface="Levenim MT"/>
              </a:rPr>
              <a:t>When you’re in DC, meet with DC PAC folks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evenim MT"/>
                <a:ea typeface="Levenim MT"/>
              </a:rPr>
              <a:t>The DCCC can help you with your fly-ins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evenim MT"/>
                <a:ea typeface="Levenim MT"/>
              </a:rPr>
              <a:t>Do your research before you meet with DC folks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Levenim MT"/>
                <a:ea typeface="Levenim MT"/>
              </a:rPr>
              <a:t>Friendly Incumbent Rul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evenim MT"/>
                <a:ea typeface="Levenim MT"/>
              </a:rPr>
              <a:t>Many PACs have a friendly incumbent rule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evenim MT"/>
                <a:ea typeface="Levenim MT"/>
              </a:rPr>
              <a:t>If an incumbent is good/neutral on their issues, they won’t give to a candidate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Levenim MT"/>
                <a:ea typeface="Levenim MT"/>
              </a:rPr>
              <a:t>Don’t make assumptions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evenim MT"/>
                <a:ea typeface="Levenim MT"/>
              </a:rPr>
              <a:t>Never make an assumption about a PAC 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efff"/>
                </a:solidFill>
                <a:latin typeface="Rockwell"/>
              </a:rPr>
              <a:t>How the DCCC Can Help</a:t>
            </a:r>
            <a:endParaRPr b="0" lang="en-US" sz="36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3eaf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PAC Workbook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3eaf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Targeting out PACs &amp; Members that fit your Candidate &amp; District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3eaf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Obtaining &amp; Reviewing Questionnaires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3eaf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Keep your DCCC Regional informed on where you are with the process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3eaf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Recommending PAC Consultants – when &amp; if your campaign is read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wipe dir="r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efff"/>
                </a:solidFill>
                <a:latin typeface="Rockwell"/>
              </a:rPr>
              <a:t>PAC to the Basics</a:t>
            </a:r>
            <a:endParaRPr b="0" lang="en-US" sz="36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What is a Political Action Committee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A group of individuals with a common interes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evenim MT"/>
                <a:ea typeface="Levenim MT"/>
              </a:rPr>
              <a:t>Labor Groups, Trade Associations, etc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Collective financial resources to support a candidate or another committe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Federal, State and Local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Over 5,000 registered with the FEC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A potential source of money for your campaig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efff"/>
                </a:solidFill>
                <a:latin typeface="Rockwell"/>
              </a:rPr>
              <a:t>PAC-ceptable Contributions</a:t>
            </a:r>
            <a:endParaRPr b="0" lang="en-US" sz="36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28600" y="1752120"/>
            <a:ext cx="8686800" cy="32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6720" indent="-5716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$5k per election from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Levenim MT"/>
                <a:ea typeface="Levenim MT"/>
              </a:rPr>
              <a:t>Multi-Candidate PAC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211400" indent="-57168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evenim MT"/>
                <a:ea typeface="Levenim MT"/>
              </a:rPr>
              <a:t>This includes most PACS and some Leadership PACs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1" marL="936720" indent="-5716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$2.7k per election from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Levenim MT"/>
                <a:ea typeface="Levenim MT"/>
              </a:rPr>
              <a:t>Non-Multi-Candidate PAC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211400" indent="-57168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evenim MT"/>
                <a:ea typeface="Levenim MT"/>
              </a:rPr>
              <a:t>This includes some PACs and some Leadership PACs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1" marL="936720" indent="-5716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$5k from your State Party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Levenim MT"/>
                <a:ea typeface="Levenim MT"/>
              </a:rPr>
              <a:t>each yea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211400" indent="-57168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evenim MT"/>
                <a:ea typeface="Levenim MT"/>
              </a:rPr>
              <a:t>This is annually, not cycle and counts against your in-kinds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1" marL="936720" indent="-5716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$2k from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Levenim MT"/>
                <a:ea typeface="Levenim MT"/>
              </a:rPr>
              <a:t>Member’s re-elect committee </a:t>
            </a: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per election ($2k each for Primary and General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936720" indent="-5716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$1k from any non-federal campaign committee per year (need FEC letter)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5105520"/>
            <a:ext cx="8763120" cy="1218960"/>
          </a:xfrm>
          <a:prstGeom prst="rect">
            <a:avLst/>
          </a:prstGeom>
          <a:noFill/>
          <a:ln w="9360">
            <a:solidFill>
              <a:srgbClr val="8adfff"/>
            </a:solidFill>
            <a:miter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110000"/>
              </a:lnSpc>
              <a:spcBef>
                <a:spcPts val="700"/>
              </a:spcBef>
              <a:buClr>
                <a:srgbClr val="77d9e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evenim MT"/>
                <a:ea typeface="Levenim MT"/>
              </a:rPr>
              <a:t>Often Local affiliates have their own PAC that is affiliated with their national organization.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Levenim MT"/>
                <a:ea typeface="Levenim MT"/>
              </a:rPr>
              <a:t>If it is not a PAC registered with the FEC you can not take the check</a:t>
            </a:r>
            <a:r>
              <a:rPr b="1" lang="en-US" sz="1600" spc="-1" strike="noStrike">
                <a:solidFill>
                  <a:srgbClr val="ffffff"/>
                </a:solidFill>
                <a:latin typeface="Levenim MT"/>
                <a:ea typeface="Levenim MT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lnSpc>
                <a:spcPct val="110000"/>
              </a:lnSpc>
              <a:spcBef>
                <a:spcPts val="700"/>
              </a:spcBef>
              <a:buClr>
                <a:srgbClr val="77d9e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evenim MT"/>
                <a:ea typeface="Levenim MT"/>
              </a:rPr>
              <a:t>If the PAC is registered with the FEC – remember it aggregate with their national counterpart.  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efff"/>
                </a:solidFill>
                <a:latin typeface="Rockwell"/>
              </a:rPr>
              <a:t>PAC-tically speaking, how do I tell?</a:t>
            </a:r>
            <a:endParaRPr b="0" lang="en-US" sz="36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28600" y="1740960"/>
            <a:ext cx="8686800" cy="19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evenim MT"/>
                <a:ea typeface="Levenim MT"/>
              </a:rPr>
              <a:t>How to distinguish a Multi-Candidate PAC from a Non-Multi-Candidate PAC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Go the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Levenim MT"/>
                <a:ea typeface="Levenim MT"/>
                <a:hlinkClick r:id="rId1"/>
              </a:rPr>
              <a:t>www.fec.gov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Type in the PAC name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Look at Type under Committee Informatio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1752480" y="3833640"/>
            <a:ext cx="60292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efff"/>
                </a:solidFill>
                <a:latin typeface="Rockwell"/>
              </a:rPr>
              <a:t>PAC to the Begin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efff"/>
                </a:solidFill>
                <a:latin typeface="Rockwell"/>
              </a:rPr>
              <a:t>Where to Start</a:t>
            </a:r>
            <a:r>
              <a:rPr b="0" lang="en-US" sz="3600" spc="-1" strike="noStrike">
                <a:solidFill>
                  <a:srgbClr val="ff66ff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Where do I start when raising PAC contributions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2480" indent="-312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Levenim MT"/>
                <a:ea typeface="Levenim MT"/>
              </a:rPr>
              <a:t>Local</a:t>
            </a:r>
            <a:endParaRPr b="0" lang="en-US" sz="9600" spc="-1" strike="noStrike">
              <a:solidFill>
                <a:srgbClr val="ffffff"/>
              </a:solidFill>
              <a:latin typeface="Tw Cen MT"/>
            </a:endParaRPr>
          </a:p>
          <a:p>
            <a:pPr marL="312480" indent="-312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Levenim MT"/>
                <a:ea typeface="Levenim MT"/>
              </a:rPr>
              <a:t>Local</a:t>
            </a:r>
            <a:endParaRPr b="0" lang="en-US" sz="9600" spc="-1" strike="noStrike">
              <a:solidFill>
                <a:srgbClr val="ffffff"/>
              </a:solidFill>
              <a:latin typeface="Tw Cen MT"/>
            </a:endParaRPr>
          </a:p>
          <a:p>
            <a:pPr marL="312480" indent="-312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Levenim MT"/>
                <a:ea typeface="Levenim MT"/>
              </a:rPr>
              <a:t>Local</a:t>
            </a:r>
            <a:endParaRPr b="0" lang="en-US" sz="9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efff"/>
                </a:solidFill>
                <a:latin typeface="Rockwell"/>
              </a:rPr>
              <a:t>Un-PACing Contributions</a:t>
            </a:r>
            <a:r>
              <a:rPr b="0" lang="en-US" sz="3600" spc="-1" strike="noStrike">
                <a:solidFill>
                  <a:srgbClr val="ff66ff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4fceff"/>
                </a:solidFill>
                <a:latin typeface="Levenim MT"/>
                <a:ea typeface="Levenim MT"/>
              </a:rPr>
              <a:t>Labor and Single Issue PAC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06000" indent="-306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59aaf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Levenim MT"/>
                <a:ea typeface="Levenim MT"/>
              </a:rPr>
              <a:t>START EARLY!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59aaf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Find out where candidate stands on the PAC’s issues before you solicit a PAC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59aaf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Just like individual donors, a PAC needs a reason to contribute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3800" indent="-261720">
              <a:lnSpc>
                <a:spcPct val="100000"/>
              </a:lnSpc>
              <a:spcBef>
                <a:spcPts val="550"/>
              </a:spcBef>
              <a:buClr>
                <a:srgbClr val="59aaf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Has your candidate ever held an elected position?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877680" indent="-219240">
              <a:lnSpc>
                <a:spcPct val="100000"/>
              </a:lnSpc>
              <a:spcBef>
                <a:spcPts val="499"/>
              </a:spcBef>
              <a:buClr>
                <a:srgbClr val="59aaf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evenim MT"/>
                <a:ea typeface="Levenim MT"/>
              </a:rPr>
              <a:t>How did they vote?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2" marL="877680" indent="-219240">
              <a:lnSpc>
                <a:spcPct val="100000"/>
              </a:lnSpc>
              <a:spcBef>
                <a:spcPts val="499"/>
              </a:spcBef>
              <a:buClr>
                <a:srgbClr val="59aaf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evenim MT"/>
                <a:ea typeface="Levenim MT"/>
              </a:rPr>
              <a:t>Have they received past PAC $?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1" marL="613800" indent="-261720">
              <a:lnSpc>
                <a:spcPct val="100000"/>
              </a:lnSpc>
              <a:spcBef>
                <a:spcPts val="550"/>
              </a:spcBef>
              <a:buClr>
                <a:srgbClr val="59aaf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evenim MT"/>
                <a:ea typeface="Levenim MT"/>
              </a:rPr>
              <a:t>Have you completed and returned their questionnaire?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59aaf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Just like donors, PACs want to know you are running a strong campaign that will win. You must show viability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0f6fc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ceff"/>
                </a:solidFill>
                <a:latin typeface="Levenim MT"/>
                <a:ea typeface="Levenim MT"/>
              </a:rPr>
              <a:t>Associations &amp; Industry PACS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buClr>
                <a:srgbClr val="91c6f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1c6f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What organizations does your candidate belong to and who does your candidate know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1c6f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evenim MT"/>
                <a:ea typeface="Levenim MT"/>
              </a:rPr>
              <a:t>Look at occupation's &amp; Employers of your candidate’s personal circle &amp; donors (i.e. Dentist; Dermatologist; Funeral Home Director, Fire Fighter)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1c6f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Set up meetings with Executive Directors/Chairs of State associations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1c6f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evenim MT"/>
                <a:ea typeface="Levenim MT"/>
              </a:rPr>
              <a:t>You need to contact the local/state level affiliate first!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1c6f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evenim MT"/>
                <a:ea typeface="Levenim MT"/>
              </a:rPr>
              <a:t>The National organization will not cut you a PAC check unless you have reached out to your local first.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1c6f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evenim MT"/>
                <a:ea typeface="Levenim MT"/>
              </a:rPr>
              <a:t>Find contributors to the PAC or Association you are trying to solicit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1c6f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evenim MT"/>
                <a:ea typeface="Levenim MT"/>
              </a:rPr>
              <a:t>Some groups will support you if one of their PAC donors makes an ask!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AutoShape 2"/>
          <p:cNvSpPr/>
          <p:nvPr/>
        </p:nvSpPr>
        <p:spPr>
          <a:xfrm>
            <a:off x="685800" y="3049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efff"/>
                </a:solidFill>
                <a:latin typeface="Rockwell"/>
              </a:rPr>
              <a:t>Un-PACing Contributions</a:t>
            </a:r>
            <a:r>
              <a:rPr b="0" lang="en-US" sz="3600" spc="-1" strike="noStrike">
                <a:solidFill>
                  <a:srgbClr val="ff66ff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efff"/>
                </a:solidFill>
                <a:latin typeface="Rockwell"/>
              </a:rPr>
              <a:t>PAC it up, PAC it in</a:t>
            </a:r>
            <a:endParaRPr b="0" lang="en-US" sz="3600" spc="-1" strike="noStrike">
              <a:solidFill>
                <a:srgbClr val="dbf5f9"/>
              </a:solidFill>
              <a:latin typeface="Tw Cen MT"/>
            </a:endParaRPr>
          </a:p>
        </p:txBody>
      </p:sp>
      <p:pic>
        <p:nvPicPr>
          <p:cNvPr id="435" name="Diagram 4" descr=""/>
          <p:cNvPicPr/>
          <p:nvPr/>
        </p:nvPicPr>
        <p:blipFill>
          <a:blip r:embed="rId1"/>
          <a:stretch/>
        </p:blipFill>
        <p:spPr>
          <a:xfrm>
            <a:off x="1042920" y="1504800"/>
            <a:ext cx="7515360" cy="522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635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efff"/>
                </a:solidFill>
                <a:latin typeface="Rockwell"/>
              </a:rPr>
              <a:t>Creating a PAC mentality</a:t>
            </a:r>
            <a:endParaRPr b="0" lang="en-US" sz="32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Don’t just call them for a check! When events happen, update them.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708120" indent="-3430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Levenim MT"/>
                <a:ea typeface="Levenim MT"/>
              </a:rPr>
              <a:t>big endorsements? Good Polls? Out raising your opponent?  Let them know!</a:t>
            </a: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Make sure both Locals and National are thanked after receiving checks.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Keep the PAC community informed by sending bi-monthly campaign updates to full PAC community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Invite them to small dollar or industry specific events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Leadership coming to your district? Add a Labor/Campaign briefing to the schedule and make sure to personally invite the locals.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evenim MT"/>
                <a:ea typeface="Levenim MT"/>
              </a:rPr>
              <a:t>Get your Locals in touch with your campaign manager and field director.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wipe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20:43:41Z</dcterms:created>
  <dc:creator>Strathdee</dc:creator>
  <dc:description/>
  <dc:language>en-US</dc:language>
  <cp:lastModifiedBy>Matthew Thackston</cp:lastModifiedBy>
  <dcterms:modified xsi:type="dcterms:W3CDTF">2015-05-05T15:14:06Z</dcterms:modified>
  <cp:revision>84</cp:revision>
  <dc:subject/>
  <dc:title>Challenger PAC &amp; Member Giving</dc:title>
</cp:coreProperties>
</file>