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92884-1D9D-4D58-8620-0AC385B21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397692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A98E0-A58B-4259-B9DD-5ED921148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33760" y="1827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769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433760" y="39769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4C321-0EE0-4F86-BFAF-7852C88C30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58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31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58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31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D249B-41DE-4748-BE98-A2594572AA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33760" y="182736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31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33760" y="182736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769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0CB3E-3FBA-45A9-B25A-A6C1D4DE39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33760" y="1827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433760" y="39769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3760" y="1827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7692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397692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33760" y="1827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9769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433760" y="39769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58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31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58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31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0D984-BA4B-4057-8B5D-6C86788DEFF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6367A-EC49-4A65-8E2E-74F156B51DB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DA240-BB7D-4F25-94FE-E300AA5D9BE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433760" y="182736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CCD7D-2216-4890-8F36-88DFBCC2724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7E8FB-B0DC-4163-9084-C9B1359635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C2F29-26CC-440B-AC4D-0AE0F01267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31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9B406-D93B-4AED-8C1B-F112F83431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33760" y="182736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9769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937C2-C72D-444C-AA9B-C929AEB8AAB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33760" y="1827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433760" y="39769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7D3DB-284F-44B5-8D65-C3B9C968994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433760" y="1827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97692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1E572-4F5D-40A1-B4E2-CD1FC6E862F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397692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AE809-554B-4413-868C-89DE219CB4E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433760" y="1827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9769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433760" y="39769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ED43A-7C0E-4D04-BEF0-924EA900F6C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158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631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158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631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3E449-78E8-42DA-A9FE-01426A87E4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33760" y="182736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F9BF1-20F5-4520-BDF1-96EA0D6E7B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6AE90-7D72-472C-A55B-9C81B52666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31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05778-D9F3-4A02-9B16-4513D04097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3760" y="182736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769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029FC-A216-43C7-B0C0-1255B162DC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33760" y="1827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33760" y="39769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B07E3-D711-4536-B1B5-6433E2A7A0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33760" y="1827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7692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CC0E4-75E0-4392-9DF6-694DE04B31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523880"/>
            <a:ext cx="8763120" cy="3240"/>
          </a:xfrm>
          <a:prstGeom prst="line">
            <a:avLst/>
          </a:prstGeom>
          <a:ln w="28440">
            <a:solidFill>
              <a:srgbClr val="006a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a8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91c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91c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91c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91c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91c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705720"/>
          </a:xfrm>
          <a:prstGeom prst="rect">
            <a:avLst/>
          </a:prstGeom>
          <a:solidFill>
            <a:srgbClr val="3f28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30120" y="6454800"/>
            <a:ext cx="881388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05160" y="6478560"/>
            <a:ext cx="61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a82"/>
                </a:solidFill>
                <a:latin typeface="Lucida Sans"/>
              </a:rPr>
              <a:t>What Women Want in 2008/July 2008 – Hart Research Associates </a:t>
            </a:r>
            <a:r>
              <a:rPr b="0" i="1" lang="en-US" sz="1400" spc="-1" strike="noStrike">
                <a:solidFill>
                  <a:srgbClr val="006a82"/>
                </a:solidFill>
                <a:latin typeface="Lucida Sans"/>
              </a:rPr>
              <a:t>f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78000" y="6453360"/>
            <a:ext cx="8762760" cy="0"/>
          </a:xfrm>
          <a:prstGeom prst="line">
            <a:avLst/>
          </a:prstGeom>
          <a:ln w="28440">
            <a:solidFill>
              <a:srgbClr val="006a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746840" y="6305400"/>
            <a:ext cx="1382760" cy="138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a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758000" y="6315120"/>
            <a:ext cx="13860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7797960" y="6356520"/>
          <a:ext cx="1258560" cy="45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97960" y="6356520"/>
                    <a:ext cx="125856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"/>
          <p:cNvSpPr/>
          <p:nvPr/>
        </p:nvSpPr>
        <p:spPr>
          <a:xfrm>
            <a:off x="152280" y="152280"/>
            <a:ext cx="381240" cy="6705720"/>
          </a:xfrm>
          <a:prstGeom prst="rect">
            <a:avLst/>
          </a:prstGeom>
          <a:solidFill>
            <a:srgbClr val="006a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sldNum" idx="1"/>
          </p:nvPr>
        </p:nvSpPr>
        <p:spPr>
          <a:xfrm>
            <a:off x="190080" y="6453000"/>
            <a:ext cx="3682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11C2-B6B5-4A3C-BB82-2B56D2B81F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" cy="6705720"/>
          </a:xfrm>
          <a:prstGeom prst="rect">
            <a:avLst/>
          </a:prstGeom>
          <a:solidFill>
            <a:srgbClr val="3f28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914400" cy="6705720"/>
          </a:xfrm>
          <a:prstGeom prst="rect">
            <a:avLst/>
          </a:prstGeom>
          <a:solidFill>
            <a:srgbClr val="006a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a8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91c4"/>
              </a:buClr>
              <a:buSzPct val="110000"/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0091c4"/>
              </a:buClr>
              <a:buSzPct val="110000"/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91c4"/>
              </a:buClr>
              <a:buSzPct val="110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380880" cy="6705720"/>
          </a:xfrm>
          <a:prstGeom prst="rect">
            <a:avLst/>
          </a:prstGeom>
          <a:solidFill>
            <a:srgbClr val="3f28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30120" y="6305400"/>
            <a:ext cx="8813880" cy="552600"/>
            <a:chOff x="330120" y="6305400"/>
            <a:chExt cx="8813880" cy="552600"/>
          </a:xfrm>
        </p:grpSpPr>
        <p:sp>
          <p:nvSpPr>
            <p:cNvPr id="91" name=""/>
            <p:cNvSpPr/>
            <p:nvPr/>
          </p:nvSpPr>
          <p:spPr>
            <a:xfrm>
              <a:off x="330120" y="6454800"/>
              <a:ext cx="881388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05160" y="6478560"/>
              <a:ext cx="613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a82"/>
                  </a:solidFill>
                  <a:latin typeface="Lucida Sans"/>
                </a:rPr>
                <a:t>What Women Want in 2008/July 2008 – Hart Research Associates </a:t>
              </a:r>
              <a:r>
                <a:rPr b="0" i="1" lang="en-US" sz="1400" spc="-1" strike="noStrike">
                  <a:solidFill>
                    <a:srgbClr val="006a82"/>
                  </a:solidFill>
                  <a:latin typeface="Lucida Sans"/>
                </a:rPr>
                <a:t>f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0880" y="6453360"/>
              <a:ext cx="8763120" cy="0"/>
            </a:xfrm>
            <a:prstGeom prst="line">
              <a:avLst/>
            </a:prstGeom>
            <a:ln w="19080">
              <a:solidFill>
                <a:srgbClr val="006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43960" y="6305400"/>
              <a:ext cx="1385640" cy="138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a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758000" y="6315120"/>
              <a:ext cx="1386000" cy="48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6" name=""/>
            <p:cNvGraphicFramePr/>
            <p:nvPr/>
          </p:nvGraphicFramePr>
          <p:xfrm>
            <a:off x="7797960" y="6356520"/>
            <a:ext cx="1258560" cy="450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797960" y="6356520"/>
                      <a:ext cx="1258560" cy="4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8" name=""/>
          <p:cNvSpPr/>
          <p:nvPr/>
        </p:nvSpPr>
        <p:spPr>
          <a:xfrm>
            <a:off x="152280" y="152280"/>
            <a:ext cx="381240" cy="6705720"/>
          </a:xfrm>
          <a:prstGeom prst="rect">
            <a:avLst/>
          </a:prstGeom>
          <a:solidFill>
            <a:srgbClr val="006a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Num" idx="2"/>
          </p:nvPr>
        </p:nvSpPr>
        <p:spPr>
          <a:xfrm>
            <a:off x="190080" y="6503760"/>
            <a:ext cx="3682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0F28-D205-4791-967B-F9BB0B1849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2120" y="2166840"/>
            <a:ext cx="8381880" cy="157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a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44560" y="2174760"/>
            <a:ext cx="83502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a82"/>
                </a:solidFill>
                <a:latin typeface="Arial"/>
              </a:rPr>
              <a:t>Understanding What Women Want In 20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993480" y="297000"/>
            <a:ext cx="1950120" cy="792360"/>
            <a:chOff x="3993480" y="297000"/>
            <a:chExt cx="1950120" cy="792360"/>
          </a:xfrm>
        </p:grpSpPr>
        <p:sp>
          <p:nvSpPr>
            <p:cNvPr id="139" name=""/>
            <p:cNvSpPr/>
            <p:nvPr/>
          </p:nvSpPr>
          <p:spPr>
            <a:xfrm>
              <a:off x="3993480" y="40788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 Narrow"/>
                </a:rPr>
                <a:t>HA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92520" y="571680"/>
              <a:ext cx="135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 Narrow"/>
                </a:rPr>
                <a:t>RESEAR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93840" y="297000"/>
              <a:ext cx="73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 Narrow"/>
                </a:rPr>
                <a:t>P e t e r    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4611600" y="843120"/>
              <a:ext cx="1293840" cy="246240"/>
              <a:chOff x="4611600" y="843120"/>
              <a:chExt cx="1293840" cy="246240"/>
            </a:xfrm>
          </p:grpSpPr>
          <p:sp>
            <p:nvSpPr>
              <p:cNvPr id="143" name=""/>
              <p:cNvSpPr/>
              <p:nvPr/>
            </p:nvSpPr>
            <p:spPr>
              <a:xfrm>
                <a:off x="4611600" y="843120"/>
                <a:ext cx="22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66"/>
                    </a:solidFill>
                    <a:latin typeface="Arial Narrow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30760" y="843120"/>
                <a:ext cx="22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66"/>
                    </a:solidFill>
                    <a:latin typeface="Arial Narrow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849560" y="843120"/>
                <a:ext cx="227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66"/>
                    </a:solidFill>
                    <a:latin typeface="Arial Narrow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967280" y="843120"/>
                <a:ext cx="22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66"/>
                    </a:solidFill>
                    <a:latin typeface="Arial Narrow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441760" y="843120"/>
                <a:ext cx="227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66"/>
                    </a:solidFill>
                    <a:latin typeface="Arial Narrow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560920" y="843120"/>
                <a:ext cx="22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66"/>
                    </a:solidFill>
                    <a:latin typeface="Arial Narrow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678280" y="843120"/>
                <a:ext cx="227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66"/>
                    </a:solidFill>
                    <a:latin typeface="Arial Narrow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086080" y="843120"/>
                <a:ext cx="227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66"/>
                    </a:solidFill>
                    <a:latin typeface="Arial Narrow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224320" y="843120"/>
                <a:ext cx="227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66"/>
                    </a:solidFill>
                    <a:latin typeface="Arial Narrow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322600" y="843120"/>
                <a:ext cx="227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66"/>
                    </a:solidFill>
                    <a:latin typeface="Arial Narrow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 flipH="1">
              <a:off x="4098960" y="777960"/>
              <a:ext cx="52848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685760" y="606600"/>
              <a:ext cx="114948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336040" y="4178160"/>
            <a:ext cx="5511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82"/>
                </a:solidFill>
                <a:latin typeface="Arial"/>
              </a:rPr>
              <a:t>Key findings from nationwide voter survey  </a:t>
            </a:r>
            <a:br>
              <a:rPr sz="2200"/>
            </a:br>
            <a:r>
              <a:rPr b="0" lang="en-US" sz="2200" spc="-1" strike="noStrike">
                <a:solidFill>
                  <a:srgbClr val="006a82"/>
                </a:solidFill>
                <a:latin typeface="Arial"/>
              </a:rPr>
              <a:t>conducted July 2008</a:t>
            </a:r>
            <a:br>
              <a:rPr sz="2200"/>
            </a:br>
            <a:r>
              <a:rPr b="0" i="1" lang="en-US" sz="2200" spc="-1" strike="noStrike">
                <a:solidFill>
                  <a:srgbClr val="006a82"/>
                </a:solidFill>
                <a:latin typeface="Arial"/>
              </a:rPr>
              <a:t>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701880" y="5456160"/>
          <a:ext cx="2624400" cy="10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1880" y="5456160"/>
                    <a:ext cx="2624400" cy="1077840"/>
                  </a:xfrm>
                  <a:prstGeom prst="rect">
                    <a:avLst/>
                  </a:prstGeom>
                  <a:ln w="7632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83920" y="215640"/>
            <a:ext cx="85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a82"/>
                </a:solidFill>
                <a:latin typeface="Arial"/>
              </a:rPr>
              <a:t>Strong Support For Legal Protections Needed To Get Equal Pay</a:t>
            </a: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12640" y="2374920"/>
          <a:ext cx="8537760" cy="38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640" y="2374920"/>
                    <a:ext cx="8537760" cy="38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1361880" y="601344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49440" y="1592280"/>
            <a:ext cx="8253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w important is it that the next president and Congress address the issue of providing women with the legal protections they need to get equal p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9440" y="4576680"/>
            <a:ext cx="1420560" cy="7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tremel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mpor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010120" y="2381400"/>
            <a:ext cx="4133880" cy="3809880"/>
            <a:chOff x="5010120" y="2381400"/>
            <a:chExt cx="4133880" cy="3809880"/>
          </a:xfrm>
        </p:grpSpPr>
        <p:sp>
          <p:nvSpPr>
            <p:cNvPr id="222" name=""/>
            <p:cNvSpPr/>
            <p:nvPr/>
          </p:nvSpPr>
          <p:spPr>
            <a:xfrm>
              <a:off x="5178600" y="2816280"/>
              <a:ext cx="2891880" cy="32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ge 18 to 34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ge 35 to 44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ge 45 to 54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ge 55 to 64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ge 65/o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come under $25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come $25K to $50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come $50K to $75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come over $75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gh school/less educatio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me college educatio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llege gradu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0120" y="2381400"/>
              <a:ext cx="4125960" cy="3268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remely/very importa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263800" y="2816280"/>
              <a:ext cx="636480" cy="32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6%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9%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4%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5%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0%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7%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2%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3%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9%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1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14800" y="2384640"/>
              <a:ext cx="4129200" cy="38066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639720" y="3166920"/>
            <a:ext cx="14209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er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mpor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70720" y="24703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18720" y="45529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24080" y="5740560"/>
            <a:ext cx="14209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64000" y="5640480"/>
            <a:ext cx="120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impor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01760" y="5126040"/>
            <a:ext cx="14209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mpor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0E97D-E033-4473-A6FF-07F59CF6AA4A}" type="slidenum">
              <a:t>10</a:t>
            </a:fld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680" y="18540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a82"/>
                </a:solidFill>
                <a:latin typeface="Arial"/>
              </a:rPr>
              <a:t>Ensuring Women Have Equal Education Opportunities:  Still A Long Way To Go</a:t>
            </a:r>
            <a:endParaRPr b="1" lang="en-US" sz="3400" spc="-1" strike="noStrike">
              <a:solidFill>
                <a:srgbClr val="006a82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905040" y="1306440"/>
          <a:ext cx="8238960" cy="490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1306440"/>
                    <a:ext cx="8238960" cy="49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4766040" y="57960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75960" y="5796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9440" y="2205000"/>
            <a:ext cx="3862080" cy="292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ess on ensuring that young women are protected from sexual harassment in schools, given equal opportunity in sports, and provided equal access to all career op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13"/>
              </a:spcBef>
              <a:buClr>
                <a:srgbClr val="ff50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made some progres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but still must do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till have a pretty lo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way to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11000" y="24368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487280" y="29113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295D2-F18B-4889-9BEC-552052D14B94}" type="slidenum">
              <a:t>11</a:t>
            </a:fld>
          </a:p>
        </p:txBody>
      </p:sp>
    </p:spTree>
  </p:cSld>
  <p:transition spd="slow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47280" y="19800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a82"/>
                </a:solidFill>
                <a:latin typeface="Arial"/>
              </a:rPr>
              <a:t>Low Confidence In Being Able </a:t>
            </a:r>
            <a:br>
              <a:rPr sz="3600"/>
            </a:br>
            <a:r>
              <a:rPr b="1" lang="en-US" sz="3600" spc="-1" strike="noStrike">
                <a:solidFill>
                  <a:srgbClr val="006a82"/>
                </a:solidFill>
                <a:latin typeface="Arial"/>
              </a:rPr>
              <a:t>To Afford Health Care Costs</a:t>
            </a: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039680" y="1420920"/>
          <a:ext cx="599616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1420920"/>
                    <a:ext cx="599616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1858680" y="60120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0480" y="1601640"/>
            <a:ext cx="808524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How confident are you that you will be able to afford health care costs, including the cost of insurance premiums, for you and your family in the next few year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59760" y="26575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97960" y="30081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00040" y="4782960"/>
            <a:ext cx="12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y conf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00040" y="3373560"/>
            <a:ext cx="12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rly conf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79560" y="3618000"/>
            <a:ext cx="135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s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what conf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789280" y="4808520"/>
            <a:ext cx="12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conf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41880" y="3665520"/>
            <a:ext cx="3068640" cy="559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st somewhat/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conf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30800" y="4356000"/>
            <a:ext cx="217116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e under $25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ican Americ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pa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college gr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70080" y="4356000"/>
            <a:ext cx="6364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35400" y="3665520"/>
            <a:ext cx="3078360" cy="20988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16998-F344-43D9-9161-1D55C621A35B}" type="slidenum">
              <a:t>12</a:t>
            </a:fld>
          </a:p>
        </p:txBody>
      </p:sp>
    </p:spTree>
  </p:cSld>
  <p:transition spd="slow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5760" y="21240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a82"/>
                </a:solidFill>
                <a:latin typeface="Arial"/>
              </a:rPr>
              <a:t>Strong Support For Expanding Access To Contraceptives &amp; Sex Education</a:t>
            </a: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146240" y="1511280"/>
          <a:ext cx="6977160" cy="490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6240" y="1511280"/>
                    <a:ext cx="6977160" cy="49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3585240" y="25653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44280" y="40543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1280" y="1592280"/>
            <a:ext cx="8253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w important is it that the next president and Congress address the issue of helping prevent unintended pregnancies by expanding access to contraceptives and comprehensive sex edu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01680" y="601344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11400" y="4729320"/>
            <a:ext cx="1420920" cy="7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tremel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mpor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02040" y="3192480"/>
            <a:ext cx="142056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er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mpor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256440" y="5475240"/>
            <a:ext cx="120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impor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06800" y="4643280"/>
            <a:ext cx="14209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mpor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957920" y="5621400"/>
            <a:ext cx="14205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2D293-683F-44F1-A5E0-7000A21E5E69}" type="slidenum">
              <a:t>13</a:t>
            </a:fld>
          </a:p>
        </p:txBody>
      </p:sp>
    </p:spTree>
  </p:cSld>
  <p:transition spd="slow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2080" y="528120"/>
            <a:ext cx="84582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a82"/>
                </a:solidFill>
                <a:latin typeface="Arial"/>
              </a:rPr>
              <a:t>Strong Support For Upholding Roe</a:t>
            </a: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912960" y="1306440"/>
          <a:ext cx="8223120" cy="490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2960" y="1306440"/>
                    <a:ext cx="8223120" cy="49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4766040" y="577044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593480" y="5770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16040" y="2085840"/>
            <a:ext cx="3527280" cy="337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preme Court’s 1973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e V. Wa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cision established a woman's constitutional right to have an abortion and limited the circumstances under which gov-ernment could restrict this righ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NOT overturn Ro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l strongly</a:t>
            </a:r>
            <a:br>
              <a:rPr sz="1800"/>
            </a:br>
            <a:r>
              <a:rPr b="0" lang="en-US" sz="1800" spc="-1" strike="noStrike">
                <a:solidFill>
                  <a:srgbClr val="6699ff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 not feel strong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overturn Ro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feel strongly</a:t>
            </a: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l strong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76040" y="22622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293600" y="21319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528520" y="38797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178120" y="39258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C04F0-40A0-4E2F-9A38-801787994E5E}" type="slidenum">
              <a:t>14</a:t>
            </a:fld>
          </a:p>
        </p:txBody>
      </p:sp>
    </p:spTree>
  </p:cSld>
  <p:transition spd="slow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2080" y="185400"/>
            <a:ext cx="85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a82"/>
                </a:solidFill>
                <a:latin typeface="Arial"/>
              </a:rPr>
              <a:t>Strong Support For Increased </a:t>
            </a:r>
            <a:br>
              <a:rPr sz="3600"/>
            </a:br>
            <a:r>
              <a:rPr b="1" lang="en-US" sz="3600" spc="-1" strike="noStrike">
                <a:solidFill>
                  <a:srgbClr val="006a82"/>
                </a:solidFill>
                <a:latin typeface="Arial"/>
              </a:rPr>
              <a:t>Child Care Funding</a:t>
            </a: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905040" y="1332000"/>
          <a:ext cx="823896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1332000"/>
                    <a:ext cx="823896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4563000" y="583416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42720" y="58341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52320" y="1949400"/>
            <a:ext cx="3567240" cy="277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increasing govern-ment funding to ensure that parents have access to quality child care and early edu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ly favor</a:t>
            </a:r>
            <a:br>
              <a:rPr sz="1800"/>
            </a:br>
            <a:r>
              <a:rPr b="0" lang="en-US" sz="1800" spc="-1" strike="noStrike">
                <a:solidFill>
                  <a:srgbClr val="6699ff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mewhat fav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what oppose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ly op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71200" y="16034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1680" y="24256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63280" y="44416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38160" y="36957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E5E09-3B8B-487B-956E-DC7A152B46D6}" type="slidenum">
              <a:t>15</a:t>
            </a:fld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20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a82"/>
                </a:solidFill>
                <a:latin typeface="Arial"/>
              </a:rPr>
              <a:t>Methodology</a:t>
            </a: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0180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6a8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phone survey among 1,308 voters nation-wide, including 1,001 women and 307 men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with gender-based samples subsequently weighted to proper proportions of electorat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6a8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ey dates:  July 17 – 24, 200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6a8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gin of error = ±2.8 percentage points overall, ±3.2 among women, ±5.7 among men, larger among other sub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00F1F-1DE7-48F5-88E0-C1198D1540D8}" type="slidenum">
              <a:t>2</a:t>
            </a:fld>
          </a:p>
        </p:txBody>
      </p:sp>
    </p:spTree>
  </p:cSld>
  <p:transition spd="slow"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998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a82"/>
                </a:solidFill>
                <a:latin typeface="Arial"/>
              </a:rPr>
              <a:t>Looking Ahead: Voters </a:t>
            </a:r>
            <a:br>
              <a:rPr sz="3600"/>
            </a:br>
            <a:r>
              <a:rPr b="1" lang="en-US" sz="3600" spc="-1" strike="noStrike">
                <a:solidFill>
                  <a:srgbClr val="006a82"/>
                </a:solidFill>
                <a:latin typeface="Arial"/>
              </a:rPr>
              <a:t>Are Worried And Concerned</a:t>
            </a: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44600" y="1663560"/>
          <a:ext cx="844524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1663560"/>
                    <a:ext cx="844524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4561200" y="58975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58520" y="58975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95240" y="4875120"/>
            <a:ext cx="3086280" cy="1492200"/>
            <a:chOff x="795240" y="4875120"/>
            <a:chExt cx="3086280" cy="1492200"/>
          </a:xfrm>
        </p:grpSpPr>
        <p:sp>
          <p:nvSpPr>
            <p:cNvPr id="166" name=""/>
            <p:cNvSpPr/>
            <p:nvPr/>
          </p:nvSpPr>
          <p:spPr>
            <a:xfrm>
              <a:off x="798480" y="4875120"/>
              <a:ext cx="3083040" cy="559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mily’s income is falling behind the cost of living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59280" y="5521320"/>
              <a:ext cx="9669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om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85160" y="5521320"/>
              <a:ext cx="63648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95240" y="4875120"/>
              <a:ext cx="3079800" cy="1492200"/>
            </a:xfrm>
            <a:prstGeom prst="rect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C7D0D-DE79-4C7A-9CDE-DAF42B89EF64}" type="slidenum">
              <a:t>3</a:t>
            </a:fld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20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a82"/>
                </a:solidFill>
                <a:latin typeface="Arial"/>
              </a:rPr>
              <a:t>Level Playing Field</a:t>
            </a: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69960" y="1547640"/>
          <a:ext cx="8223120" cy="490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1547640"/>
                    <a:ext cx="8223120" cy="49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4523400" y="58723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32960" y="587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9009B-EDB8-4903-8B6F-34F9121A724F}" type="slidenum">
              <a:t>4</a:t>
            </a:fld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11200" y="175680"/>
            <a:ext cx="86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a82"/>
                </a:solidFill>
                <a:latin typeface="Arial"/>
              </a:rPr>
              <a:t>Women Believe A Strong Women’s Movement Is Still Needed</a:t>
            </a: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706320" y="1360440"/>
          <a:ext cx="8552160" cy="49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320" y="1360440"/>
                    <a:ext cx="8552160" cy="49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1710360" y="60120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76320" y="2290680"/>
            <a:ext cx="1420920" cy="21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till need a stro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’s movement to push for changes that benefit 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7440" y="4665600"/>
            <a:ext cx="142092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don’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ill need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tron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men’s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518000" y="1617840"/>
            <a:ext cx="4133880" cy="4595760"/>
            <a:chOff x="4518000" y="1617840"/>
            <a:chExt cx="4133880" cy="4595760"/>
          </a:xfrm>
        </p:grpSpPr>
        <p:sp>
          <p:nvSpPr>
            <p:cNvPr id="182" name=""/>
            <p:cNvSpPr/>
            <p:nvPr/>
          </p:nvSpPr>
          <p:spPr>
            <a:xfrm>
              <a:off x="4680720" y="2217960"/>
              <a:ext cx="2599200" cy="39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 18 to 3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 35 to 4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 45 to 5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 55 to 6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 65/o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come under $25K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come $25K to $50K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come $50K to $75K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come over $75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gh school/less educati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me college educati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llege gradu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tholic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vangelical Protestant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l other Protestant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18000" y="1617840"/>
              <a:ext cx="4125960" cy="559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omen who believe we still need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strong women’s mov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796880" y="2217960"/>
              <a:ext cx="586080" cy="39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8%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2%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5%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0%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2%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8%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4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6%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9%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8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2%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6%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22680" y="1621080"/>
              <a:ext cx="4129200" cy="4592520"/>
            </a:xfrm>
            <a:prstGeom prst="rect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62836-E2E9-4769-A00A-458FFC47F286}" type="slidenum">
              <a:t>5</a:t>
            </a:fld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20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a82"/>
                </a:solidFill>
                <a:latin typeface="Arial"/>
              </a:rPr>
              <a:t>Government Solving Problems</a:t>
            </a: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31800" y="1560600"/>
          <a:ext cx="822312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1800" y="1560600"/>
                    <a:ext cx="822312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4485240" y="58723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995160" y="587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356BA-2C2B-4635-B410-65049BF6B664}" type="slidenum">
              <a:t>6</a:t>
            </a:fld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212400"/>
            <a:ext cx="830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a82"/>
                </a:solidFill>
                <a:latin typeface="Arial"/>
              </a:rPr>
              <a:t>Providing Families With Economic Security:  Still A Long Way To Go</a:t>
            </a: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925560" y="1357200"/>
          <a:ext cx="8223120" cy="490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5560" y="1357200"/>
                    <a:ext cx="8223120" cy="49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4766040" y="58723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275960" y="587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9440" y="2205000"/>
            <a:ext cx="3735360" cy="292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ess on providing today’s families with economic securit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at can they can afford their current needs and plan for a secure retir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13"/>
              </a:spcBef>
              <a:buClr>
                <a:srgbClr val="ff50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made some progres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but still must do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till have a pretty lo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way to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23600" y="16765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14280" y="21240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B8DBC-ADDB-4611-900C-CBAEA8DDDDFD}" type="slidenum">
              <a:t>7</a:t>
            </a:fld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212400"/>
            <a:ext cx="830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a82"/>
                </a:solidFill>
                <a:latin typeface="Arial"/>
              </a:rPr>
              <a:t>Strong Support For Plan</a:t>
            </a:r>
            <a:br>
              <a:rPr sz="3600"/>
            </a:br>
            <a:r>
              <a:rPr b="1" lang="en-US" sz="3600" spc="-1" strike="noStrike">
                <a:solidFill>
                  <a:srgbClr val="006a82"/>
                </a:solidFill>
                <a:latin typeface="Arial"/>
              </a:rPr>
              <a:t>To Cut Poverty In Half</a:t>
            </a: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925560" y="1357200"/>
          <a:ext cx="8223120" cy="490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5560" y="1357200"/>
                    <a:ext cx="8223120" cy="49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4804200" y="58849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301520" y="587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42920" y="1925640"/>
            <a:ext cx="345600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ing a long-range, comprehensive plan to cut poverty in half over the next ten years, which would especially help women and children who make up a disproportionate share of those currently living below the poverty l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13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emely important priorit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for Congress and P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important priority f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Congress and P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36200" y="16383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14280" y="25178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23ECE-E82C-482B-B0FE-5A17BF439B4D}" type="slidenum">
              <a:t>8</a:t>
            </a:fld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60160" y="185400"/>
            <a:ext cx="812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a82"/>
                </a:solidFill>
                <a:latin typeface="Arial"/>
              </a:rPr>
              <a:t>Providing Equal Rights For Women:  Still A Long Way To Go</a:t>
            </a:r>
            <a:endParaRPr b="1" lang="en-US" sz="3600" spc="-1" strike="noStrike">
              <a:solidFill>
                <a:srgbClr val="006a82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912960" y="1306440"/>
          <a:ext cx="8223120" cy="490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2960" y="1306440"/>
                    <a:ext cx="8223120" cy="49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4766040" y="583416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75960" y="58341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9440" y="2205000"/>
            <a:ext cx="3862080" cy="26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ess on providing equal rights for women, including equal pay for equal work, and ending other discrimination in the workpla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13"/>
              </a:spcBef>
              <a:buClr>
                <a:srgbClr val="ff50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made some progres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but still must do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till have a pretty lo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way to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11000" y="21654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487280" y="27432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9C012-C2BE-47A2-BB11-060708430922}" type="slidenum">
              <a:t>9</a:t>
            </a:fld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26:34Z</dcterms:created>
  <dc:creator>HP Authorized Customer</dc:creator>
  <dc:description/>
  <dc:language>en-US</dc:language>
  <cp:lastModifiedBy>Ermini</cp:lastModifiedBy>
  <cp:lastPrinted>2007-04-05T14:30:24Z</cp:lastPrinted>
  <dcterms:modified xsi:type="dcterms:W3CDTF">2008-08-06T14:29:54Z</dcterms:modified>
  <cp:revision>15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87927505</vt:r8>
  </property>
  <property fmtid="{D5CDD505-2E9C-101B-9397-08002B2CF9AE}" pid="3" name="_AuthorEmailDisplayName">
    <vt:lpwstr>Rebecca Naser</vt:lpwstr>
  </property>
  <property fmtid="{D5CDD505-2E9C-101B-9397-08002B2CF9AE}" pid="4" name="_EmailSubject">
    <vt:lpwstr>Take II on FINAL findings memo and PPT presentation</vt:lpwstr>
  </property>
  <property fmtid="{D5CDD505-2E9C-101B-9397-08002B2CF9AE}" pid="5" name="_ReviewingToolsShownOnce">
    <vt:lpwstr/>
  </property>
</Properties>
</file>